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6.png" ContentType="image/png"/>
  <Override PartName="/ppt/media/image10.wmf" ContentType="image/x-wmf"/>
  <Override PartName="/ppt/media/image3.wmf" ContentType="image/x-wmf"/>
  <Override PartName="/ppt/media/image4.gif" ContentType="image/gif"/>
  <Override PartName="/ppt/media/image12.wmf" ContentType="image/x-wmf"/>
  <Override PartName="/ppt/media/image7.gif" ContentType="image/gi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4F6-CCEC-4A19-8DA1-40874AC6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20F-7BEC-43A6-B493-1CBE771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3D3-CD8A-4CE0-BA74-2839549C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090-6DA5-4460-BDF8-298271AE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149-778E-4CCE-A341-72CA2EB1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E16-59DA-4F25-90C0-CB5E637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67D9-5009-4AF1-9F4E-2A1B1818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D2C-26D6-4E14-8FAF-D4B733DD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D6C-5F04-4339-A38C-BAE58F5F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432-0ACB-49DF-AD5C-F58EC3A1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BD3-8F11-47F5-8393-A74332C3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1BD-65EF-4488-94BE-DAE18B61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039A-0FEB-4E8B-8607-32681D82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 Trail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r Mounta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iker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990720" y="6553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routes Around the 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park everyone can c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st you keep It cle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0 min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181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k op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am to 10p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on-Su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3276720" cy="6324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6680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5257800"/>
            <a:ext cx="1819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s and Drin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Do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h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le of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o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1430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28600" y="4876920"/>
            <a:ext cx="3124080" cy="1714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2398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Enjoy The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ith Friends And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253656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238880" y="304920"/>
            <a:ext cx="1905120" cy="192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162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124080" y="3429000"/>
            <a:ext cx="28828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29:39Z</dcterms:created>
  <dc:creator>770765</dc:creator>
  <dc:description/>
  <dc:language>en-US</dc:language>
  <cp:lastModifiedBy>770765</cp:lastModifiedBy>
  <dcterms:modified xsi:type="dcterms:W3CDTF">2009-03-19T15:56:56Z</dcterms:modified>
  <cp:revision>4</cp:revision>
  <dc:subject/>
  <dc:title>A trail for Mountain Bikers</dc:title>
</cp:coreProperties>
</file>